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DRIVEBY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D81-7F34-4D9E-8B01-E0245C55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A81-BB88-4288-8DED-C540E50D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051-4A7A-48A3-A686-BBA6B306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D948-E7F0-4658-9C65-D21E31AC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2B79-8FE6-4646-A992-30A354B4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C581-D085-4E43-BCE2-78E75E80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DE52-AEE8-407F-A58D-C91CD0EE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842B-8334-476D-8A09-2CDB1393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A2D3-8A83-4104-BE85-6EAD1CB4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4532-2DE4-4947-8754-2F310A7C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4284-9261-4006-92BE-4530B859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9E2-874C-4894-88DF-E78079C3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22E2-8218-437F-8916-5B5EC64D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7183-2C40-4CC1-B057-C58B0B34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503B-53CF-4858-A8E9-9DF685F1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2186-E401-41C2-B1C6-2D2DD4BB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684A-1E65-43B8-90ED-27DFE33F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988-8A29-4BB4-AE98-6928C552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981-9389-4FD1-A721-D6F15666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E24-35B4-4ED4-BA90-CA01AE0C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3FF-18C5-430E-A45D-6C29B2E7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966-15CF-4011-AD90-CD8FADB9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878-03C8-4E5E-AD31-10D72490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6F6-6FFA-4861-9C61-B83CDD70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CEF2-5616-4009-AEB2-C0D4F5F742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D64F-8610-4DAE-9A94-3C86CF5406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.png"/><Relationship Id="rId4" Type="http://schemas.openxmlformats.org/officeDocument/2006/relationships/audio" Target="../media/CHIMES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SPIRING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DUSTRIES BE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ild it and they will come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from wher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haring in the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lemm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39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l Motors Corpo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l Motors Dealershi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SU Institute of Technology (GM ASEP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spective Student/Inter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eneral Motors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c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$$$$$$$$$$$$$$$$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duce a quality product @ a reasonable co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ppy Custom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peat Custom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63868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4" name="CHIMES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8"/>
                </p:tgtEl>
              </p:cMediaNode>
            </p:audio>
            <p:seq>
              <p:cTn id="7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an of Action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rowing Your Own Technicia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cate Students Prospects, Tell Them of the Opportunities Availab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Vocational School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utomotive Progra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utomotive Competitions (VICA, NADA, etc.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igh School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unselo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utomotive Program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Customer Bas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mployees and Friend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evelop a Joint effort with OSU Institute of Technology to recruit quality individual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come Actively involved with local Vocational Technical &amp; High School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Get to know your local instructo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0f00"/>
                </a:solidFill>
                <a:latin typeface="Times New Roman"/>
              </a:rPr>
              <a:t>Visit school to recruit for ASEP inter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ork closely with local school Automotive advisory boar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Utilize or develop a local AYES Progra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9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01" dur="2000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6T20:43:24Z</dcterms:created>
  <dc:creator>Automotive Technology</dc:creator>
  <dc:description/>
  <dc:language>en-US</dc:language>
  <cp:lastModifiedBy>OSU Institute of Technology</cp:lastModifiedBy>
  <cp:lastPrinted>1999-12-06T17:15:04Z</cp:lastPrinted>
  <dcterms:modified xsi:type="dcterms:W3CDTF">2013-04-12T12:25:16Z</dcterms:modified>
  <cp:revision>51</cp:revision>
  <dc:subject/>
  <dc:title>INSPIRING INDUSTRIES BEST</dc:title>
</cp:coreProperties>
</file>